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E436-14C6-4BD1-AC7F-FE0FD2330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FABD-A4FC-4452-B0C0-BA9E3D22DE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5C5-7DD1-410E-B763-946918FB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B57-581A-45FC-A422-02223981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C09-82BD-4032-AFC7-D4580FF2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74B-89A7-4FB2-B69F-48A7F0E8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9DFC-8207-4361-95C4-853FEB1A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447C-ED4C-4F1D-8416-1D0F8A7D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54FB-924D-48CD-AFA2-FB66B54C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695A-597E-4CD2-994B-54E5687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951E-EBB8-483F-B113-EF8CFCB8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F07C-672D-4D91-8ADC-BC98BA39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323C-5DBE-4C4E-9E3B-AE326D7C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36F-2B03-4013-8389-ED62D9F3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2704-CA95-4695-983E-7A284A2E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A559-C272-4DA3-B3A8-1D3C3F8D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280F-B6B8-4E0A-BE02-B71D99EC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28F3-ACCC-4FAB-BA1D-5DD84618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0A00-0B46-427A-8290-A81425C1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5B135-F386-47B6-95D7-6C196E9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27645-00FF-4FEC-836A-96E27FBE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55864-3CDE-4836-9938-E498CF68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D33CA-8424-496C-A4EC-41FC09BC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5C878-A4D3-412C-9615-C1C7F8A7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06B-2A0E-41EB-8796-46ABC27D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F7AE0-2ABE-419E-B485-C672AA8B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E9468-4564-46C6-AF0F-13E5522E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B5965-16EF-4A40-ACFE-660FFF5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C76C9-2833-4C42-BAB0-2299FEEA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8A17C-21D8-4FF4-A4BD-226C3F0C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46548-A43E-453B-90E8-3BF70C55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D94C6-2088-4795-8C47-A80F5DFA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437-0F3F-4AA7-BC07-0028231A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B83-95FE-4B0B-B797-9FDB04B0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838-11E6-496F-A629-68B23FEF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68C-3653-4F0F-9725-F1D75A2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7EB-EB3D-4E6D-A79A-B1471C2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FAB-2B98-4F95-8458-4978EC4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043D-F5F5-402A-8974-3C4568984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BF75-4742-4733-B5F6-C6DCCCDDE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2301-8A99-4552-BF78-45E43FC50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eshme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.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 new 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aeologist Leonard wooley set out in 1922 to look for Ur a city mentioned in the bible, Ur was the origenal home of abraham the father of the hebrew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e:raisin::plum: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c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zation-the method used by a writer to develop a character. The method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 showing the character's appearance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 displaying the character's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) revealing the character's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) letting the character sp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) getting the reactions of ot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 Foc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33520" y="1790640"/>
            <a:ext cx="80769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lots develop around a conflict, or struggle between two or more forces in a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conflict is the battle between a character and an outside force—nature, society, fate, or another charac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conflict is the battle within the mind of a character who is torn between differ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s of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aslon540 BT"/>
              </a:rPr>
              <a:t>Connecting to the St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jealousy"/>
          <p:cNvPicPr/>
          <p:nvPr/>
        </p:nvPicPr>
        <p:blipFill>
          <a:blip r:embed="rId1"/>
          <a:stretch/>
        </p:blipFill>
        <p:spPr>
          <a:xfrm>
            <a:off x="7162920" y="4114800"/>
            <a:ext cx="1301760" cy="1866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380880" y="205740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you trust your life to a frien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is a stronger emotion—love or jealous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ompletely can one person ever know and understand an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990720" y="4572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e Lady, or The Tiger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nk Stock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0" descr="Love"/>
          <p:cNvPicPr/>
          <p:nvPr/>
        </p:nvPicPr>
        <p:blipFill>
          <a:blip r:embed="rId2"/>
          <a:stretch/>
        </p:blipFill>
        <p:spPr>
          <a:xfrm>
            <a:off x="6629400" y="15238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ssig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hort paragraph about a time you had to make a tough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5:59:59Z</dcterms:created>
  <dc:creator>VMS</dc:creator>
  <dc:description/>
  <dc:language>en-US</dc:language>
  <cp:lastModifiedBy>Angie McCall</cp:lastModifiedBy>
  <dcterms:modified xsi:type="dcterms:W3CDTF">2012-09-17T19:58:19Z</dcterms:modified>
  <cp:revision>10</cp:revision>
  <dc:subject/>
  <dc:title>Freshmen</dc:title>
</cp:coreProperties>
</file>